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93D-60E3-472F-BD98-BC176786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6BC-AE46-4688-987C-71573C31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B2A-50B9-4253-A4BE-2EA425ED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44F-D330-4880-9C6A-7295C421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5BDF-29E5-458B-BAE2-E9CAF1E8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F9FC-3B32-4A29-8728-81940E8F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29E1-3E21-4E24-BDBC-7BC97E3E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4FB8-4ADC-444C-A795-EE79BF73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757-1F4B-49E9-8987-2F044E6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AF03-4C20-4B1E-B646-1695B8ED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AFFC-369F-4957-A3FE-0052A658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BE6-A0A8-41EA-B9F8-B3977F44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7CCA-744A-4359-935C-6857190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7346-E278-447D-9BD6-6728FC3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E45F-048B-4E8C-8F95-2CDF1CD7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506C-BC44-49BE-B9C1-1FCBD432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B4F1-B832-4098-A235-65D5054A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EA99-8AAE-4390-9314-5C185C12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08D84-360B-4181-BA0B-0153232E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31F9-C7ED-4A10-954E-ED20E6DC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B405-1C43-4D7E-8C99-E4E45F6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9CCE-0026-4A43-84EB-7F460E7E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9E6-4524-4169-AFDC-213C2017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929E-B884-49EB-882C-A4A4F051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E8E9-0A71-4F49-9E9C-54F15E6F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FBC5-1AE3-4FFE-9EB3-60007CBC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B8DA-4BCE-497F-B7F2-31711C60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985B-8C50-4E50-A09C-A8B9A39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20D2-84C1-4F83-87DC-EB61C6D1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176F-D2F8-472D-AF41-3DFB9014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AC638-58BC-4E07-9F85-1052E2AE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FA38-0D5B-4791-9007-9B57FDC5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37E9-7C4F-4529-8319-151CDC68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E3D-EB68-46CA-9D2B-A1668B38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6717-1DD8-49B7-8BEA-93A3987B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B7E2-82A5-40C8-B81D-1EAD3BEE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E21EB-4CAB-4D5F-BEED-41DD649C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5BD5B-7A47-4117-8753-883BC09C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E9F9-E4EC-45FC-A35E-E9D48214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D56FE-B598-40F0-B32A-57A08EF1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96149-41F8-4044-97CB-4D63C9C6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C36D1-E379-4384-928C-28D59C45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0AE4-D71A-466B-A0AA-2D2CFAA4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45BE6-6BEC-4270-A052-00AB9467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F17-C221-4F4A-B886-B2B5907F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97DB-C049-4FCE-81D3-A2586FBD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6BF3-E36B-4E68-AA3B-316AEDA9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01201-2BC7-4923-B20F-7011CE30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AA90F-3EA2-4FB2-A15E-851C4598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E8684-DA66-445C-883D-115B41F4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9F006-4835-4B6E-A06B-175DCF96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24D6-6FD0-48C4-834A-0160507D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832D-AB13-4751-BAFE-4E8662D5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288CA-7E4B-41DC-90F2-6EE55DF4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394B3-D9E7-419B-9A8F-E0CC7184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050-89DB-40CB-A3DC-EF502795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A456-FAF8-4F11-9474-178BC075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50E-4A13-4779-B59B-494C66E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C63-B687-42BD-9083-3E3FDD89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4CF-7FEC-4160-9D13-CA663C3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7FDE-E7B0-49C5-B55F-6955BDB41DC7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47C0-FBDD-4026-8B32-D2875838EA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BB50-D512-474A-92DD-856F04477598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BB9C-1E96-41B7-8475-1DA7A18198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F185-29D3-4317-B436-6DCD1B210049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7743-3B48-4E55-9703-796A0986EB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AA52-6C7D-486B-B8CB-70789592F57F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6AC1-6A89-4BB9-BBB7-3A7D8C5BFB1C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3169-E006-43F1-9381-0B700E9FB70E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DA7C-712D-423C-9B82-62025106C8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jeopardylabs.com/play/unit-2-review24" TargetMode="External"/><Relationship Id="rId2" Type="http://schemas.openxmlformats.org/officeDocument/2006/relationships/hyperlink" Target="http://www.superteachertools.com/jeopardy/usergames/Apr201216/game1334595708.php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évision unité 2 et 3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Youpi!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242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haracters in Cris et Friss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790560"/>
            <a:ext cx="752184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Réginald: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directeur de Logi-clique, toujours poli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manque d’argent et risque de perdre sa compagn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a fais des voyages secre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Fernand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Génie de l’informatique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Vaniteux, ambitieux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ux contrôler la compagn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a développé des jeux électroniq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Cyril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Gardien de sécurité, très sérieux, brusque, et très désagréab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es employés n’ont pas une vie privée au travail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il les surveille tout le tem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918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haracters in cris et friss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639360"/>
            <a:ext cx="75218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Mei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ntelligente, superficielle, vanite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lle achète impulsivement beaucoup d’articles très c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onia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a meilleure programme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olitaire, réservée, introvert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mployé modè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Manu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n’est plus enthousias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es idées n’ont pas eu de succè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est tris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erbes suivis d’une préposi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099800"/>
            <a:ext cx="75218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Rempli les tirets suivants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Nous décidons ______  commencer par le bureau de Réginald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Vous devez _____ parler à l’inspecteur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Ils apprennent _____ voler les bijoux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On essayer _____ récupérer les informations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Je continue _____ chercher.</a:t>
            </a: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543040" y="1608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345400" y="4411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226960" y="3687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2497680" y="3073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assé composé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22000" y="1100160"/>
            <a:ext cx="81406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Franklin Gothic Book"/>
              </a:rPr>
              <a:t>HV + PP = PC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NEED TWO PARTS ALWAYS!!!!!!!!!!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Passé Composé with </a:t>
            </a:r>
            <a:r>
              <a:rPr b="1" lang="fr-CA" sz="1600" spc="-1" strike="noStrike" u="sng">
                <a:solidFill>
                  <a:srgbClr val="ff0000"/>
                </a:solidFill>
                <a:uFillTx/>
                <a:latin typeface="Franklin Gothic Book"/>
              </a:rPr>
              <a:t>Avoir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Franklin Gothic Book"/>
              </a:rPr>
              <a:t>Verbes réguliers: 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R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É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R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I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RE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U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Not on our irregular list we copied from the overhead? Treat it as a regular verb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rbes irréguliers, including any « compound » verbes (i.e. : commettre, apprendre, souffrir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ris et frissons jeopard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jeopardylabs.com/play/unit-2-review24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2"/>
              </a:rPr>
              <a:t>http://www.superteachertools.com/jeopardy/usergames/Apr201216/game1334595708.ph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3:28:19Z</dcterms:created>
  <dc:creator>Sarah</dc:creator>
  <dc:description/>
  <dc:language>en-US</dc:language>
  <cp:lastModifiedBy>Sarah</cp:lastModifiedBy>
  <dcterms:modified xsi:type="dcterms:W3CDTF">2012-12-11T20:30:40Z</dcterms:modified>
  <cp:revision>15</cp:revision>
  <dc:subject/>
  <dc:title>Révision unité 2 et 3</dc:title>
</cp:coreProperties>
</file>